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FC72-5F0B-46BD-8477-CBD4D102E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F41D-DDC2-4DFD-86D6-6C984C4FBC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9EA5-4E2F-4C39-B5BD-25B4DC909E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D4B4-2096-4DF5-A064-8C3650249E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6F2B-E1A5-4B0D-BA26-575DC0979D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3046-03BE-4786-9C93-A4B3FB0DE8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52D3-3B2C-490E-970C-86B2213701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59CA-FD34-4E45-80CF-424D190C47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5B9E-568F-42CC-8C6B-108731B3E1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7BBF-179D-4E29-91CF-03C0E4F919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409B-DCA5-4096-85FC-FF381BC836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34AD-324A-4B31-9CC2-863A4FB1A0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71E4-3FAD-4E62-B93B-6E2754A0AC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8BE1-F5B2-4452-B424-C27272E79C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5DFC-16D6-4D6D-A225-41FD49C1A4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3DBF-A617-4FDD-A6AD-10E46F2F41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8FE9-3E7D-4E51-B946-85F0CD1E8C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6B90-C4C5-4375-8174-7CABC6B4E1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E1B5-FA73-4453-B1DB-BA62E4D5C6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6892-B2D8-4D91-84B0-23CAC35A41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251E-10EC-4433-B639-320CECEC4B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8611-B0E7-429E-BC40-67344D184C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7A0D-834D-42DE-9C2D-A46F77D2EC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BEFC-9118-4A03-B43B-03508C4270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5B1F-064D-4FC1-ABA2-E581F3FAFC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B5E9-04F0-4B30-85DE-C83F177ECA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98F3-119C-47C4-BEAB-96CD1F644D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5764-C158-4EBF-A255-CA16FDF0FF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50B5-AE4E-48B2-91A4-82E55DE2FD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9426-F2A4-4BF1-8D60-BAD9BE8000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E877-9D43-4E05-85BD-50C736E53C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F8A7-C06F-4617-828B-4C9DBEC475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BFC2-E419-4B93-A65F-E34991AA6F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0D97-4A0F-4E03-A417-6E9EBDB81C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357C-CECB-4FE2-B3EC-B04DE008EF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CBBE-4837-4ED3-A8AF-99D56FD629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FC01-32B0-415C-AAD6-F7856E564C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31E7-CD5C-4CD2-BBAF-539E0ADFD9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622C-920A-4FB2-B977-C9152BA080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F8D5-CE17-4A94-8412-70A93E7739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86B9-E7A6-4C46-96B0-D0790BAF59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6256-B897-4A37-8AAF-3BF91A5868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A67B-FC33-4A84-88E9-CCA1025140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ED35-E2B5-4C3C-9F5D-B7E18EA9EA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BCE6-0DBA-42C1-A77B-E0D9965A6C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9C40-1CB2-40E3-B2A4-017E33B4AF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836B-3A39-4BFB-9D6A-6FC9B931DB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0C05-6752-4655-A627-D925CCE1B4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5F5D-5F7F-4683-97B6-5848FBE9AB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E22E-4B90-457B-86BB-210C0013B3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ADD0-8577-4A8A-954C-A88F2CD642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6EF3-BFBE-434B-8D0A-2B3B687F77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A03D-9E02-4E5F-BE5D-EB9C7F2430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1F35-2FD6-415C-A5F3-C5B0AF6976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0672-59A4-4532-B376-D278C6CCAE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3D54-EE49-4DA2-AC07-F36265E812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E2F4-48FC-414C-8DF4-970B33565B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B36F-E299-41A5-8468-D6838C5867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9288-F136-4B8A-B681-BC98052FCB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CCFC-1A27-4E64-BC96-DCE751C6C5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909A-5CC3-427F-B789-A28E4A64F6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BF6A-AA1A-4571-8397-115444D08F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0746-09B3-4DE0-A6FB-55EF98900F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FA42-DCB2-4EBD-BE20-49EB9DBF0C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D2B3-7768-4217-827B-5889EB41A0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100D-950B-495C-92F1-AA88924BCF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70DC-0EB0-418E-83FD-D2DB46272F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115A-AE27-4EA7-A1CB-51BAE0DF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1E13-FDE9-48C0-B063-D12B6F6C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3ED3-C22F-4564-BEE1-0D531D4C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E0BE-F693-405D-9E96-064A8766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BB785-097D-427A-8BA7-E7A41F0C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651C1-C886-494C-BBF0-1849A29D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A55CA-C0AB-4DEB-9281-48C30024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4AEF0-C768-4476-B0FB-02F793E3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6B1C4-11DD-4AC8-9472-D5C1AD7F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35D3C-FBE3-4CDE-911D-B68D6585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562EA-5FA6-4EEB-ABDC-0D01C245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1EF-5D03-4E01-8310-D5E8D76D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41535-B854-450F-B43D-68239C73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385E9-3F3F-47AE-8CF3-FBFD88EB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F23B1-EC5C-46A6-A6DC-CFF8FB93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9CE0E-EA9F-450D-A3A4-5F7D86F7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571E3-1D9F-4578-B21D-D590C2C5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7C4F-2623-4AD7-9845-5FF38987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F0F-82DB-4A9D-925F-0B6C9689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29B8-D7BF-41EC-9BC9-CA068AA6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90D-C4F3-4054-8681-0E4B64E4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1D3-E748-422A-BAF7-AD88399F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242B-3D67-4D76-8B12-D2A7B48C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454-8015-4E75-A0AD-216D2FFE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0F1E-0CF0-40CB-8F79-9B86C9C2E9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A9CA-FC79-4C4D-ADFC-58545D5627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Euro in a New International Financial Archite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obert Mund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umbia Un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y 27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Joint EBF - ABA Conference: "Inter-Regional Banking Cooperation for Solid Financial Future" in Baku, Azerbaij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j0335112"/>
          <p:cNvPicPr/>
          <p:nvPr/>
        </p:nvPicPr>
        <p:blipFill>
          <a:blip r:embed="rId1"/>
          <a:stretch/>
        </p:blipFill>
        <p:spPr>
          <a:xfrm>
            <a:off x="6781680" y="3200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2"/>
          <p:cNvSpPr/>
          <p:nvPr/>
        </p:nvSpPr>
        <p:spPr>
          <a:xfrm>
            <a:off x="685800" y="4876920"/>
            <a:ext cx="1523880" cy="1447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066680" y="3429000"/>
            <a:ext cx="1143000" cy="99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6324480" y="4876920"/>
            <a:ext cx="83844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6781680" y="31240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952880" y="579132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92920" y="3733920"/>
            <a:ext cx="790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131920" y="13716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971800" y="266688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656880" y="380988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791320" y="308448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04920" y="304920"/>
            <a:ext cx="90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(Inner circles represent gold stoc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2362320" y="175248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219320" y="365760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3657600" y="3276720"/>
            <a:ext cx="167652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219320" y="5410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2193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6553080" y="5105520"/>
            <a:ext cx="38124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63244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7010280" y="33526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5181480" y="59436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876920" y="5867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2209680" y="990720"/>
            <a:ext cx="1828800" cy="1676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2819520" y="1447920"/>
            <a:ext cx="609480" cy="609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220968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British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556320" y="274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28"/>
          <p:cNvGraphicFramePr/>
          <p:nvPr/>
        </p:nvGraphicFramePr>
        <p:xfrm>
          <a:off x="-1066680" y="2895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895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9"/>
          <p:cNvSpPr/>
          <p:nvPr/>
        </p:nvSpPr>
        <p:spPr>
          <a:xfrm>
            <a:off x="3736080" y="38862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United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0"/>
          <p:cNvSpPr/>
          <p:nvPr/>
        </p:nvSpPr>
        <p:spPr>
          <a:xfrm>
            <a:off x="3429000" y="1828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>
            <a:off x="3276720" y="1981080"/>
            <a:ext cx="8380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3"/>
          <p:cNvSpPr/>
          <p:nvPr/>
        </p:nvSpPr>
        <p:spPr>
          <a:xfrm flipH="1" flipV="1">
            <a:off x="5257800" y="4495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4"/>
          <p:cNvSpPr/>
          <p:nvPr/>
        </p:nvSpPr>
        <p:spPr>
          <a:xfrm flipV="1">
            <a:off x="1523880" y="4572000"/>
            <a:ext cx="22860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5"/>
          <p:cNvSpPr/>
          <p:nvPr/>
        </p:nvSpPr>
        <p:spPr>
          <a:xfrm flipH="1" flipV="1">
            <a:off x="4800600" y="480024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akdown of the Gold Standard in Early 1930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back to gold created an excess demand for it and dragged the world into deflation and de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jor countries suffered price declines of 35%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left gold in 1931 and the U.S. in 1933, only to go back to gold in 1934 at a higher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934-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lation led to the breakup of the gold standard and the U.S. went off gold in 193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34, however, FDR devalued the dollar and put the U.S. back on a weak form of the gold stand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de the U.S. explicitly the center of the international monetary system for the next four dec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and the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eting of 44 nations in Bretton Woods, New Hampshire, U.S.A., in 1944, the International Monetary Fund  was set up to supervise the fixed exchange rat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tton Woods took not create a new system; it endorsed that which had already evol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vertible Dollar Stand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Bretton Woods System” was an anchored dollar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kept the dollar price of gold fixed and the other countries kept their currencies fixed to the dol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1295280" y="609480"/>
            <a:ext cx="6172200" cy="624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1447920" y="1981080"/>
            <a:ext cx="1447560" cy="144792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124080" y="1676520"/>
            <a:ext cx="2362320" cy="236196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133720" y="4114800"/>
            <a:ext cx="914400" cy="9144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3124080" y="4876920"/>
            <a:ext cx="1143000" cy="11430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7467480" y="1752480"/>
            <a:ext cx="914400" cy="9907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Sov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486400" y="3048120"/>
            <a:ext cx="1143000" cy="1143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5105520" y="4495680"/>
            <a:ext cx="685800" cy="6858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114800" y="4800600"/>
            <a:ext cx="228600" cy="30492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3581280" y="990720"/>
            <a:ext cx="228600" cy="22860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8600" y="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Dollar Standard 1934-197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A.K.A. the Bretton Wood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Syste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819520" y="2438280"/>
            <a:ext cx="457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2971800" y="3657600"/>
            <a:ext cx="533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486400" y="2971800"/>
            <a:ext cx="380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3657600" y="3962520"/>
            <a:ext cx="38088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800600" y="3886200"/>
            <a:ext cx="45720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7238880" y="3581280"/>
            <a:ext cx="609840" cy="5335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562720" y="533520"/>
            <a:ext cx="1143000" cy="1143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 flipV="1">
            <a:off x="5105520" y="1523880"/>
            <a:ext cx="68580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3" descr="BD10297_"/>
          <p:cNvPicPr/>
          <p:nvPr/>
        </p:nvPicPr>
        <p:blipFill>
          <a:blip r:embed="rId1"/>
          <a:stretch/>
        </p:blipFill>
        <p:spPr>
          <a:xfrm>
            <a:off x="2209680" y="1828800"/>
            <a:ext cx="131760" cy="123840"/>
          </a:xfrm>
          <a:prstGeom prst="rect">
            <a:avLst/>
          </a:prstGeom>
          <a:ln w="0">
            <a:noFill/>
          </a:ln>
        </p:spPr>
      </p:pic>
      <p:sp>
        <p:nvSpPr>
          <p:cNvPr id="287" name="Oval 24"/>
          <p:cNvSpPr/>
          <p:nvPr/>
        </p:nvSpPr>
        <p:spPr>
          <a:xfrm>
            <a:off x="6781680" y="48769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5" descr="BD10301_"/>
          <p:cNvPicPr/>
          <p:nvPr/>
        </p:nvPicPr>
        <p:blipFill>
          <a:blip r:embed="rId2"/>
          <a:stretch/>
        </p:blipFill>
        <p:spPr>
          <a:xfrm>
            <a:off x="6114960" y="49719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89" name="Oval 26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7" descr="BD10300_"/>
          <p:cNvPicPr/>
          <p:nvPr/>
        </p:nvPicPr>
        <p:blipFill>
          <a:blip r:embed="rId3"/>
          <a:stretch/>
        </p:blipFill>
        <p:spPr>
          <a:xfrm>
            <a:off x="5715000" y="2286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BD10301_"/>
          <p:cNvPicPr/>
          <p:nvPr/>
        </p:nvPicPr>
        <p:blipFill>
          <a:blip r:embed="rId4"/>
          <a:stretch/>
        </p:blipFill>
        <p:spPr>
          <a:xfrm>
            <a:off x="6477120" y="22096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292" name="Oval 29"/>
          <p:cNvSpPr/>
          <p:nvPr/>
        </p:nvSpPr>
        <p:spPr>
          <a:xfrm>
            <a:off x="3657600" y="2209680"/>
            <a:ext cx="13716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S.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System Broke Down in 19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broke down in 1971 because world prices had tripled while gold prices had been fixed, giving rise to an excess demand f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give up all its gold stock, the U.S. took the dollar off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countries then took their currencies off the dollar, giving rise to fluctuating exchange ra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the end of Bretton W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exible Exchange Rates the Result of Failure to Negoti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W System broke down because the world price level tripled while the price of gold was kept at $35, the price set in 193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esident Nixon took the dollar off gold on August 15, 1971, the other countries took their currencies off the dol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ajor countries wanted to scrap the system but a reformed system could not be negoti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uctuating Exchange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Monetary National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ctuating exchange rates meant that each country was responsible for its own monetary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augurated an era of monetary nation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onetary Syste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monetary systems were characterized by use of the precious metals, mainly gold and silver, and common use of a popular unit of account and medium of exchange typically associated with a great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urrencies of the past millennium have been the bezant, denier, dinar, dirham, florin, sequin, ducat,  maravedi, thaler, Spanish dollars, livres, pounds, dollars and eu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Chaotic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85 members of the IMF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of countries on flexible rates would have meant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f there are N = 200 countries in the world with separate currencies, there are ½ x N x (N-l) = 19,900 exchange rat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uctuating Rates the Worst Ide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ctuating rates a system of monetary nation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est countries lose the most, the biggest countries might 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 was invented by the superpowers, Britain in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 and U.S. in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never subjected to careful scruti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tional Monetar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fixed exchange rate system, the smaller countries could benefit from being part of the huge dollar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kup of the fixed exchange rate system by the monetary nationalists shifted power and seigniorage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Gaulle called “an exorbitant privileg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did not want to share the gains of its large currency area with the rest of the worl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Arial"/>
                <a:ea typeface="新細明體"/>
              </a:rPr>
              <a:t>Flexible Rates 1973-99</a:t>
            </a:r>
            <a:r>
              <a:rPr b="1" lang="en-US" sz="3700" spc="-1" strike="noStrike">
                <a:solidFill>
                  <a:srgbClr val="ffcc00"/>
                </a:solidFill>
                <a:latin typeface="Arial"/>
                <a:ea typeface="新細明體"/>
              </a:rPr>
              <a:t> 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7" name="Picture 3" descr="BD10297_"/>
          <p:cNvPicPr/>
          <p:nvPr/>
        </p:nvPicPr>
        <p:blipFill>
          <a:blip r:embed="rId1"/>
          <a:stretch/>
        </p:blipFill>
        <p:spPr>
          <a:xfrm>
            <a:off x="239868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BD10298_"/>
          <p:cNvPicPr/>
          <p:nvPr/>
        </p:nvPicPr>
        <p:blipFill>
          <a:blip r:embed="rId2"/>
          <a:stretch/>
        </p:blipFill>
        <p:spPr>
          <a:xfrm>
            <a:off x="659772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BD10300_"/>
          <p:cNvPicPr/>
          <p:nvPr/>
        </p:nvPicPr>
        <p:blipFill>
          <a:blip r:embed="rId3"/>
          <a:stretch/>
        </p:blipFill>
        <p:spPr>
          <a:xfrm>
            <a:off x="2411280" y="4954680"/>
            <a:ext cx="127080" cy="109440"/>
          </a:xfrm>
          <a:prstGeom prst="rect">
            <a:avLst/>
          </a:prstGeom>
          <a:ln w="0">
            <a:noFill/>
          </a:ln>
        </p:spPr>
      </p:pic>
      <p:sp>
        <p:nvSpPr>
          <p:cNvPr id="310" name="Oval 6"/>
          <p:cNvSpPr/>
          <p:nvPr/>
        </p:nvSpPr>
        <p:spPr>
          <a:xfrm>
            <a:off x="1905120" y="297180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新細明體"/>
              </a:rPr>
              <a:t>D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914400" y="1676520"/>
            <a:ext cx="1398600" cy="132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2952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20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5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6704640" y="236232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5564160" y="50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3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4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6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37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38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39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0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1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2"/>
          <p:cNvSpPr/>
          <p:nvPr/>
        </p:nvSpPr>
        <p:spPr>
          <a:xfrm>
            <a:off x="3429000" y="5181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4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6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4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48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50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51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52"/>
          <p:cNvSpPr/>
          <p:nvPr/>
        </p:nvSpPr>
        <p:spPr>
          <a:xfrm flipH="1">
            <a:off x="5943240" y="4800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3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4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5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6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57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60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4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5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6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7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8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69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0"/>
          <p:cNvSpPr/>
          <p:nvPr/>
        </p:nvSpPr>
        <p:spPr>
          <a:xfrm>
            <a:off x="2590920" y="365760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Unofficial Dollar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 flexible exchange rates did less harm because countries could use the dollar as a unit of account and keep currency reserves in doll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st countries “the exchange rate” meant the rate on the dol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became an unofficial world central bank, providing global reserves, supplying the unit of account, and sometimes acting as lender of last res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Financial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no banking crises under the Bretton Woods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trast there were four banking crises under fluctuating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l associated with large swings in major exchange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ajor exchange rates involved were the dollar rate against European currencies, and the dollar-yen r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Four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&amp;L Crisis – early 198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tional Debt Crisis – 19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F-Asian Crisis – 199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Shock and World Crisis -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6.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uropean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most of all disliked flexible rates and the power it gave the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embarked on its project for a common currency even before the system broke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a European currency (called europa) was presented and published in 19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Evolution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Currency Areas Before the Euro: 1990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3" descr="BD10297_"/>
          <p:cNvPicPr/>
          <p:nvPr/>
        </p:nvPicPr>
        <p:blipFill>
          <a:blip r:embed="rId1"/>
          <a:stretch/>
        </p:blipFill>
        <p:spPr>
          <a:xfrm>
            <a:off x="239868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D10298_"/>
          <p:cNvPicPr/>
          <p:nvPr/>
        </p:nvPicPr>
        <p:blipFill>
          <a:blip r:embed="rId2"/>
          <a:stretch/>
        </p:blipFill>
        <p:spPr>
          <a:xfrm>
            <a:off x="659592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D10300_"/>
          <p:cNvPicPr/>
          <p:nvPr/>
        </p:nvPicPr>
        <p:blipFill>
          <a:blip r:embed="rId3"/>
          <a:stretch/>
        </p:blipFill>
        <p:spPr>
          <a:xfrm>
            <a:off x="2409840" y="4952880"/>
            <a:ext cx="128520" cy="111240"/>
          </a:xfrm>
          <a:prstGeom prst="rect">
            <a:avLst/>
          </a:prstGeom>
          <a:ln w="0">
            <a:noFill/>
          </a:ln>
        </p:spPr>
      </p:pic>
      <p:sp>
        <p:nvSpPr>
          <p:cNvPr id="389" name="Oval 6"/>
          <p:cNvSpPr/>
          <p:nvPr/>
        </p:nvSpPr>
        <p:spPr>
          <a:xfrm>
            <a:off x="1981080" y="289548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  <a:ea typeface="新細明體"/>
              </a:rPr>
              <a:t>D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533520" y="1295280"/>
            <a:ext cx="177948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438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219320" y="1981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7772400" y="5029200"/>
            <a:ext cx="38088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6626880" y="28702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697880" y="5486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8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29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2057400" y="525780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Braz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2895480" y="54864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416"/>
                </a:solidFill>
                <a:latin typeface="Arial"/>
                <a:ea typeface="新細明體"/>
              </a:rPr>
              <a:t>A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3429000" y="5181480"/>
            <a:ext cx="53352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42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44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5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46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7696080" y="4648320"/>
            <a:ext cx="2192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53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54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5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6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57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59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0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1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2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3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64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Currency Areas after the Eu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452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80880" y="838080"/>
            <a:ext cx="170352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57200" y="31240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19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7241400" y="190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7"/>
          <p:cNvSpPr/>
          <p:nvPr/>
        </p:nvSpPr>
        <p:spPr>
          <a:xfrm>
            <a:off x="8077320" y="403848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40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43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47"/>
          <p:cNvSpPr/>
          <p:nvPr/>
        </p:nvSpPr>
        <p:spPr>
          <a:xfrm>
            <a:off x="1523880" y="2438280"/>
            <a:ext cx="838440" cy="8384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0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1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2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3"/>
          <p:cNvSpPr/>
          <p:nvPr/>
        </p:nvSpPr>
        <p:spPr>
          <a:xfrm>
            <a:off x="114480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54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5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6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7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8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9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506" name="Line 60"/>
          <p:cNvSpPr/>
          <p:nvPr/>
        </p:nvSpPr>
        <p:spPr>
          <a:xfrm flipH="1" flipV="1">
            <a:off x="1905120" y="3581280"/>
            <a:ext cx="761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1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62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3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4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65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66"/>
          <p:cNvSpPr/>
          <p:nvPr/>
        </p:nvSpPr>
        <p:spPr>
          <a:xfrm>
            <a:off x="8155800" y="41911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67"/>
          <p:cNvSpPr/>
          <p:nvPr/>
        </p:nvSpPr>
        <p:spPr>
          <a:xfrm>
            <a:off x="2272680" y="4403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8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69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70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on of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ation of the euro in 1999 concentrated the monetary power of most of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its creation, the euro overtook the yen as the #2 currenc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Britain joined it, the euro area would be as large or larger than the dollar area (depending on the exchange r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opted out because of its fear of instability of the dollar-euro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he 2007-10 Financial Shock     in Four Ac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Context: Three Great Boo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s 1982-90, the “Seven Fat Years” of the Reagan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-2001, was the longest expansion in America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at boom was the Bush expansion of 2002-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ur 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-prime mortg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isis crystallized on Aug 9-10, 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Sept 15, 2008 bankruptcy of Lehman Bros, AIG and its afterm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The economic contraction that occurred from 2008(3) to 2009(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deficit-debt fallout of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y the Lehman Crisis of 2008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-prime mortgage crisis had been managed with the unprecedented $300 billion central bank bailouts of August 9-10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onated the Lehman crash more than a year l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swer is monetary tightness after Jun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Dollar Appreciation During a Rec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Fed’s Shift to Tigh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ne 2008 the Fed listened to inflation haw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w the huge balance sheet as an inflationary thr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ey multiplier had fallen in half, from 8 to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ought  when the money multiplier reverted to normal, the system would explode in inf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ymptoms of Monetary Tightness in 2008(3)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commodity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inflation rate to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Phases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Reserve Asset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Leader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03-1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Bimetal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&amp; Sil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73-1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15-1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24-19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,$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UK, 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34-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G-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1-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3-19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Flex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F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85-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Man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9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and E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 E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2010-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Currenc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.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C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EM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ight Money in last half of 2008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6560" y="2209680"/>
            <a:ext cx="74170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—30% appreciation against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ing Price of Gold—3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ing Oil prices—7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Inflation Rate (annualized) lowered from 5.5% in June 08 to negative in early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609480" y="380880"/>
          <a:ext cx="8128080" cy="5867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  <a:gridCol w="2031840"/>
              </a:tblGrid>
              <a:tr h="1354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The Dollar in Euros and the Price of Gold in Dollars in July and November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Euros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Dollars per E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Gold ounce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July 15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ct 27,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76520" y="609480"/>
          <a:ext cx="59958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95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3"/>
          <p:cNvSpPr/>
          <p:nvPr/>
        </p:nvSpPr>
        <p:spPr>
          <a:xfrm flipV="1">
            <a:off x="4572000" y="1828440"/>
            <a:ext cx="0" cy="380988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 flipV="1">
            <a:off x="5791320" y="1294920"/>
            <a:ext cx="0" cy="434340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4419720" y="1600200"/>
            <a:ext cx="1676160" cy="23623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648320" y="2971800"/>
            <a:ext cx="1371600" cy="19051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5362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5105520" y="685800"/>
            <a:ext cx="1143000" cy="5181480"/>
          </a:xfrm>
          <a:prstGeom prst="rect">
            <a:avLst/>
          </a:prstGeom>
          <a:solidFill>
            <a:srgbClr val="3399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Fail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751040"/>
            <a:ext cx="7696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brought down by dollar appreciation in the 2008 (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B back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sen-Bernanke decided not to save Leh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to save Leh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w Polic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d Policy in 2010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 did not acknowledge its mistake in 20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ing it in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ar appreciation brought the stock marke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killing job growth, and creating the basis for a double d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2"/>
          <p:cNvGraphicFramePr/>
          <p:nvPr/>
        </p:nvGraphicFramePr>
        <p:xfrm>
          <a:off x="380880" y="609480"/>
          <a:ext cx="83059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3"/>
          <p:cNvSpPr/>
          <p:nvPr/>
        </p:nvSpPr>
        <p:spPr>
          <a:xfrm>
            <a:off x="1674720" y="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High Doll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the Fed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scrap its “malign neglect” of the exchan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put a floor to the euro, and add foreign assets to its balance sheet, without sterilizing the effect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forbid the FRBNY from sterilizing the effects of euro purchase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make a deal with the ECB to keep the dollar-euro exchange rate within a narrow r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Europe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has gained by the strong dollar policy of the U.S. But enough is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will boom and help Euro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euro will diminish the debt burdens of the fiscally-weak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chance that debt restructuring may be needed for one or two fiscally-weak states during next five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euro deconstr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he Age of the Pound Ster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t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the British Empire was a leading power and the pound sterling the most important currency in the world, with London as the dominant financial center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uro Area 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 area needs to move toward greater fiscal centra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ilings on Increases in Discretionary Spe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political integration could include a consolidation of European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uro-Area Bills and Bo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able to turn national bills and bonds into euro-area bills and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involved a commitment toward greater political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-Area Treasury Bills and Bonds would help the euro area mature financ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dvantage to furthering the international use of the eu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95280" y="2742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Toward a Global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Problem of the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ation of the euro was a great benefit to Europe but it split the core of the world economy into two currency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swings in the dollar-euro rate are very damaging to T.W. and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are very dangerous for the rest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wo Approaches for Rest of the Worl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ies for Africa, Latin America and As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pproaches toward a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s to stabilize the dollar-euro rate. This would require an agreement between Europe and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is to use a basket of the two currencies. This could be done through the IMF, with an improvement in the SD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veral Competing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zation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Currenc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Metal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A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SimSun"/>
              </a:rPr>
              <a:t>n Asian Currency by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2015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2700360" y="981000"/>
            <a:ext cx="3395520" cy="338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6324480" y="3200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3564000" y="249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9"/>
          <p:cNvSpPr/>
          <p:nvPr/>
        </p:nvSpPr>
        <p:spPr>
          <a:xfrm>
            <a:off x="0" y="3124080"/>
            <a:ext cx="2819520" cy="275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0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7467480" y="137160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Oval 14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15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16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4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5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627280" y="5084640"/>
            <a:ext cx="91440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48006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227640" y="27082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3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36"/>
          <p:cNvSpPr/>
          <p:nvPr/>
        </p:nvSpPr>
        <p:spPr>
          <a:xfrm>
            <a:off x="6019920" y="1143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1890360" y="4075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W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1356480" y="33130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102600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HK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1819440" y="4745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378000" y="3448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Ba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181440" y="4149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-P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1051200" y="54435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Australia-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PEC Solution? Simple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if Japan fixed yen to dollar,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like China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Oval 3"/>
          <p:cNvSpPr/>
          <p:nvPr/>
        </p:nvSpPr>
        <p:spPr>
          <a:xfrm>
            <a:off x="5410080" y="2276640"/>
            <a:ext cx="3421080" cy="3192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69236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7"/>
          <p:cNvSpPr/>
          <p:nvPr/>
        </p:nvSpPr>
        <p:spPr>
          <a:xfrm>
            <a:off x="0" y="762120"/>
            <a:ext cx="5105520" cy="5160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348000" y="29242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2195640" y="9810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4"/>
          <p:cNvSpPr/>
          <p:nvPr/>
        </p:nvSpPr>
        <p:spPr>
          <a:xfrm>
            <a:off x="5580000" y="1700280"/>
            <a:ext cx="478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6"/>
          <p:cNvSpPr/>
          <p:nvPr/>
        </p:nvSpPr>
        <p:spPr>
          <a:xfrm>
            <a:off x="3564000" y="5013360"/>
            <a:ext cx="152280" cy="152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2743200" y="457200"/>
            <a:ext cx="103356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C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152280" y="1052640"/>
            <a:ext cx="3657600" cy="34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21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23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19280" y="3573360"/>
            <a:ext cx="1871640" cy="2065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6"/>
          <p:cNvSpPr/>
          <p:nvPr/>
        </p:nvSpPr>
        <p:spPr>
          <a:xfrm>
            <a:off x="3708000" y="18111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27"/>
          <p:cNvSpPr/>
          <p:nvPr/>
        </p:nvSpPr>
        <p:spPr>
          <a:xfrm>
            <a:off x="3635280" y="1413000"/>
            <a:ext cx="79236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SimSun"/>
              </a:rPr>
              <a:t>Lat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9"/>
          <p:cNvSpPr/>
          <p:nvPr/>
        </p:nvSpPr>
        <p:spPr>
          <a:xfrm>
            <a:off x="324000" y="2133720"/>
            <a:ext cx="1885680" cy="19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5946120" y="1295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ak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2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34"/>
          <p:cNvSpPr/>
          <p:nvPr/>
        </p:nvSpPr>
        <p:spPr>
          <a:xfrm>
            <a:off x="4643280" y="105264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5"/>
          <p:cNvSpPr/>
          <p:nvPr/>
        </p:nvSpPr>
        <p:spPr>
          <a:xfrm>
            <a:off x="4701960" y="1341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36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419640" y="4797360"/>
            <a:ext cx="20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9"/>
          <p:cNvSpPr/>
          <p:nvPr/>
        </p:nvSpPr>
        <p:spPr>
          <a:xfrm>
            <a:off x="2197800" y="1989000"/>
            <a:ext cx="519120" cy="825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3546360" y="33051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1"/>
          <p:cNvSpPr/>
          <p:nvPr/>
        </p:nvSpPr>
        <p:spPr>
          <a:xfrm>
            <a:off x="2197800" y="422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42"/>
          <p:cNvSpPr/>
          <p:nvPr/>
        </p:nvSpPr>
        <p:spPr>
          <a:xfrm>
            <a:off x="756720" y="2852640"/>
            <a:ext cx="766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C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28440" y="-15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新細明體"/>
              </a:rPr>
              <a:t>Alternative Scenario: APEC + Europe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4" name="Picture 3" descr="BD10300_"/>
          <p:cNvPicPr/>
          <p:nvPr/>
        </p:nvPicPr>
        <p:blipFill>
          <a:blip r:embed="rId1"/>
          <a:stretch/>
        </p:blipFill>
        <p:spPr>
          <a:xfrm>
            <a:off x="2416320" y="2619360"/>
            <a:ext cx="117360" cy="125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BD10297_"/>
          <p:cNvPicPr/>
          <p:nvPr/>
        </p:nvPicPr>
        <p:blipFill>
          <a:blip r:embed="rId2"/>
          <a:stretch/>
        </p:blipFill>
        <p:spPr>
          <a:xfrm>
            <a:off x="6594480" y="2600280"/>
            <a:ext cx="150840" cy="16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BD10301_"/>
          <p:cNvPicPr/>
          <p:nvPr/>
        </p:nvPicPr>
        <p:blipFill>
          <a:blip r:embed="rId3"/>
          <a:stretch/>
        </p:blipFill>
        <p:spPr>
          <a:xfrm>
            <a:off x="2416320" y="4951440"/>
            <a:ext cx="117360" cy="125280"/>
          </a:xfrm>
          <a:prstGeom prst="rect">
            <a:avLst/>
          </a:prstGeom>
          <a:ln w="0">
            <a:noFill/>
          </a:ln>
        </p:spPr>
      </p:pic>
      <p:sp>
        <p:nvSpPr>
          <p:cNvPr id="657" name="Oval 6"/>
          <p:cNvSpPr/>
          <p:nvPr/>
        </p:nvSpPr>
        <p:spPr>
          <a:xfrm>
            <a:off x="685800" y="1219320"/>
            <a:ext cx="2666880" cy="2743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209680" y="914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962520" y="2286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1295280" y="2057400"/>
            <a:ext cx="18288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 E 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447920" y="1447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2133720" y="2133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1371600" y="3352680"/>
            <a:ext cx="1447920" cy="1524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6400800" y="33526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22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23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Oval 24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25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6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67832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31"/>
          <p:cNvSpPr/>
          <p:nvPr/>
        </p:nvSpPr>
        <p:spPr>
          <a:xfrm>
            <a:off x="2971800" y="4343400"/>
            <a:ext cx="1066680" cy="1066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Oval 33"/>
          <p:cNvSpPr/>
          <p:nvPr/>
        </p:nvSpPr>
        <p:spPr>
          <a:xfrm>
            <a:off x="4724280" y="502920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5597280" y="6019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Dinar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Oval 35"/>
          <p:cNvSpPr/>
          <p:nvPr/>
        </p:nvSpPr>
        <p:spPr>
          <a:xfrm>
            <a:off x="4495680" y="38098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38"/>
          <p:cNvSpPr/>
          <p:nvPr/>
        </p:nvSpPr>
        <p:spPr>
          <a:xfrm>
            <a:off x="3352680" y="13716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6594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1"/>
          <p:cNvSpPr/>
          <p:nvPr/>
        </p:nvSpPr>
        <p:spPr>
          <a:xfrm>
            <a:off x="6400800" y="838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43" descr="BD10300_"/>
          <p:cNvPicPr/>
          <p:nvPr/>
        </p:nvPicPr>
        <p:blipFill>
          <a:blip r:embed="rId4"/>
          <a:stretch/>
        </p:blipFill>
        <p:spPr>
          <a:xfrm>
            <a:off x="7682040" y="599760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4" descr="BD10297_"/>
          <p:cNvPicPr/>
          <p:nvPr/>
        </p:nvPicPr>
        <p:blipFill>
          <a:blip r:embed="rId5"/>
          <a:stretch/>
        </p:blipFill>
        <p:spPr>
          <a:xfrm>
            <a:off x="8448840" y="35082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5" descr="BD10301_"/>
          <p:cNvPicPr/>
          <p:nvPr/>
        </p:nvPicPr>
        <p:blipFill>
          <a:blip r:embed="rId6"/>
          <a:stretch/>
        </p:blipFill>
        <p:spPr>
          <a:xfrm>
            <a:off x="3800520" y="26748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6" descr="BD10300_"/>
          <p:cNvPicPr/>
          <p:nvPr/>
        </p:nvPicPr>
        <p:blipFill>
          <a:blip r:embed="rId7"/>
          <a:stretch/>
        </p:blipFill>
        <p:spPr>
          <a:xfrm>
            <a:off x="6610320" y="4951440"/>
            <a:ext cx="122400" cy="125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7" descr="BD10300_"/>
          <p:cNvPicPr/>
          <p:nvPr/>
        </p:nvPicPr>
        <p:blipFill>
          <a:blip r:embed="rId8"/>
          <a:stretch/>
        </p:blipFill>
        <p:spPr>
          <a:xfrm>
            <a:off x="3110040" y="32097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8" descr="BD10302_"/>
          <p:cNvPicPr/>
          <p:nvPr/>
        </p:nvPicPr>
        <p:blipFill>
          <a:blip r:embed="rId9"/>
          <a:stretch/>
        </p:blipFill>
        <p:spPr>
          <a:xfrm>
            <a:off x="5029200" y="2971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9" descr="BD10299_"/>
          <p:cNvPicPr/>
          <p:nvPr/>
        </p:nvPicPr>
        <p:blipFill>
          <a:blip r:embed="rId10"/>
          <a:stretch/>
        </p:blipFill>
        <p:spPr>
          <a:xfrm>
            <a:off x="2897280" y="1949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0" descr="j0222021"/>
          <p:cNvPicPr/>
          <p:nvPr/>
        </p:nvPicPr>
        <p:blipFill>
          <a:blip r:embed="rId11"/>
          <a:stretch/>
        </p:blipFill>
        <p:spPr>
          <a:xfrm>
            <a:off x="7315200" y="3124080"/>
            <a:ext cx="531720" cy="533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1" descr="BD10298_"/>
          <p:cNvPicPr/>
          <p:nvPr/>
        </p:nvPicPr>
        <p:blipFill>
          <a:blip r:embed="rId12"/>
          <a:stretch/>
        </p:blipFill>
        <p:spPr>
          <a:xfrm>
            <a:off x="4952880" y="1219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2" descr="BD10301_"/>
          <p:cNvPicPr/>
          <p:nvPr/>
        </p:nvPicPr>
        <p:blipFill>
          <a:blip r:embed="rId13"/>
          <a:stretch/>
        </p:blipFill>
        <p:spPr>
          <a:xfrm>
            <a:off x="47242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3" descr="BD10301_"/>
          <p:cNvPicPr/>
          <p:nvPr/>
        </p:nvPicPr>
        <p:blipFill>
          <a:blip r:embed="rId14"/>
          <a:stretch/>
        </p:blipFill>
        <p:spPr>
          <a:xfrm>
            <a:off x="1143000" y="6019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4"/>
          <p:cNvSpPr/>
          <p:nvPr/>
        </p:nvSpPr>
        <p:spPr>
          <a:xfrm>
            <a:off x="1828800" y="638640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55" descr="BD10297_"/>
          <p:cNvPicPr/>
          <p:nvPr/>
        </p:nvPicPr>
        <p:blipFill>
          <a:blip r:embed="rId15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6" descr="BD10297_"/>
          <p:cNvPicPr/>
          <p:nvPr/>
        </p:nvPicPr>
        <p:blipFill>
          <a:blip r:embed="rId16"/>
          <a:stretch/>
        </p:blipFill>
        <p:spPr>
          <a:xfrm>
            <a:off x="3708360" y="612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7" descr="BD10300_"/>
          <p:cNvPicPr/>
          <p:nvPr/>
        </p:nvPicPr>
        <p:blipFill>
          <a:blip r:embed="rId1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8" descr="BD10300_"/>
          <p:cNvPicPr/>
          <p:nvPr/>
        </p:nvPicPr>
        <p:blipFill>
          <a:blip r:embed="rId18"/>
          <a:stretch/>
        </p:blipFill>
        <p:spPr>
          <a:xfrm>
            <a:off x="5116680" y="1994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9" descr="BD10301_"/>
          <p:cNvPicPr/>
          <p:nvPr/>
        </p:nvPicPr>
        <p:blipFill>
          <a:blip r:embed="rId19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0" descr="BD10301_"/>
          <p:cNvPicPr/>
          <p:nvPr/>
        </p:nvPicPr>
        <p:blipFill>
          <a:blip r:embed="rId20"/>
          <a:stretch/>
        </p:blipFill>
        <p:spPr>
          <a:xfrm>
            <a:off x="8028000" y="500544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1"/>
          <p:cNvSpPr/>
          <p:nvPr/>
        </p:nvSpPr>
        <p:spPr>
          <a:xfrm>
            <a:off x="2972880" y="990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ur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新細明體"/>
              </a:rPr>
              <a:t>Three Stages of Monetary Refor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Stage I. Convergence of DEY (Dollar-Euro-Yen) Exchange Rates and G-3 Monetar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Use of DEY as platform, possibly with gold, for world currency, the IN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reation of INTOR and Ratification by the Board of Governors of IM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762120" y="4952880"/>
            <a:ext cx="168732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1371600" y="380880"/>
            <a:ext cx="1752480" cy="1676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895480" y="2590920"/>
            <a:ext cx="2210040" cy="2133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22280" y="2895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18960" y="5486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Ger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881240" y="563868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823480" y="594360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0" y="2590920"/>
            <a:ext cx="2286000" cy="220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Diagram 14"/>
          <p:cNvGrpSpPr/>
          <p:nvPr/>
        </p:nvGrpSpPr>
        <p:grpSpPr>
          <a:xfrm>
            <a:off x="90720" y="-4457880"/>
            <a:ext cx="3529080" cy="2986200"/>
            <a:chOff x="90720" y="-4457880"/>
            <a:chExt cx="3529080" cy="2986200"/>
          </a:xfrm>
        </p:grpSpPr>
        <p:sp>
          <p:nvSpPr>
            <p:cNvPr id="152" name="_s1028"/>
            <p:cNvSpPr/>
            <p:nvPr/>
          </p:nvSpPr>
          <p:spPr>
            <a:xfrm>
              <a:off x="90720" y="-310032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29"/>
            <p:cNvSpPr/>
            <p:nvPr/>
          </p:nvSpPr>
          <p:spPr>
            <a:xfrm>
              <a:off x="2968920" y="-373392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0"/>
            <p:cNvSpPr/>
            <p:nvPr/>
          </p:nvSpPr>
          <p:spPr>
            <a:xfrm>
              <a:off x="498600" y="-2692440"/>
              <a:ext cx="814320" cy="814320"/>
            </a:xfrm>
            <a:prstGeom prst="ellipse">
              <a:avLst/>
            </a:prstGeom>
            <a:solidFill>
              <a:srgbClr val="f3f7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1"/>
            <p:cNvSpPr/>
            <p:nvPr/>
          </p:nvSpPr>
          <p:spPr>
            <a:xfrm>
              <a:off x="2968920" y="-445788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640840" y="3048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4495680" y="0"/>
            <a:ext cx="521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890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  <a:ea typeface="新細明體"/>
              </a:rPr>
              <a:t>(Inner circles represent gold stoc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581280" y="33526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609480" y="3048120"/>
            <a:ext cx="1219320" cy="11430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新細明體"/>
              </a:rPr>
              <a:t>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1828800" y="8380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1219320" y="548640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Germ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105520" y="6172200"/>
            <a:ext cx="38088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7"/>
          <p:cNvSpPr/>
          <p:nvPr/>
        </p:nvSpPr>
        <p:spPr>
          <a:xfrm>
            <a:off x="3352680" y="6095880"/>
            <a:ext cx="609840" cy="60984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2514600" y="167652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1752480" y="3809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1980720" y="4114800"/>
            <a:ext cx="17528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733560" y="426708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67080" y="4191120"/>
            <a:ext cx="9144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419720" y="4038480"/>
            <a:ext cx="22096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 flipV="1">
            <a:off x="4495680" y="3276720"/>
            <a:ext cx="1447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6553080" y="5257800"/>
            <a:ext cx="38124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4800600" y="1600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ahoma"/>
                <a:ea typeface="新細明體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5029200" y="1828800"/>
            <a:ext cx="457200" cy="4572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4933800" y="1555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 flipH="1">
            <a:off x="4266720" y="2209680"/>
            <a:ext cx="8384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5943600" y="2743200"/>
            <a:ext cx="9144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1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2"/>
          <p:cNvSpPr/>
          <p:nvPr/>
        </p:nvSpPr>
        <p:spPr>
          <a:xfrm>
            <a:off x="7238880" y="3276720"/>
            <a:ext cx="30492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 flipV="1">
            <a:off x="6781680" y="26665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327672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566400" y="201312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6969600" y="2895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erto 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  <a:ea typeface="新細明體"/>
              </a:rPr>
              <a:t>The INTOR: What could we expec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single unit for quot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unit for denominating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rate of inflation for participating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interest rate on risk-fre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global busines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The International Monetary System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721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533520" y="1066680"/>
            <a:ext cx="1550880" cy="147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57200" y="28954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2590920" y="48006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27432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29718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165440" y="1447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37"/>
          <p:cNvSpPr/>
          <p:nvPr/>
        </p:nvSpPr>
        <p:spPr>
          <a:xfrm>
            <a:off x="5105520" y="396252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Oval 40"/>
          <p:cNvSpPr/>
          <p:nvPr/>
        </p:nvSpPr>
        <p:spPr>
          <a:xfrm>
            <a:off x="457200" y="464832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Oval 43"/>
          <p:cNvSpPr/>
          <p:nvPr/>
        </p:nvSpPr>
        <p:spPr>
          <a:xfrm>
            <a:off x="304920" y="4114800"/>
            <a:ext cx="38088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7"/>
          <p:cNvSpPr/>
          <p:nvPr/>
        </p:nvSpPr>
        <p:spPr>
          <a:xfrm>
            <a:off x="1676520" y="2438280"/>
            <a:ext cx="685800" cy="6098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50"/>
          <p:cNvSpPr/>
          <p:nvPr/>
        </p:nvSpPr>
        <p:spPr>
          <a:xfrm flipH="1">
            <a:off x="297180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83988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53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4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5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6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7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8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5107680" y="4114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2136240" y="42670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66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67"/>
          <p:cNvSpPr/>
          <p:nvPr/>
        </p:nvSpPr>
        <p:spPr>
          <a:xfrm flipH="1">
            <a:off x="2819160" y="48769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68"/>
          <p:cNvSpPr/>
          <p:nvPr/>
        </p:nvSpPr>
        <p:spPr>
          <a:xfrm flipH="1">
            <a:off x="2895480" y="4876920"/>
            <a:ext cx="763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69"/>
          <p:cNvSpPr/>
          <p:nvPr/>
        </p:nvSpPr>
        <p:spPr>
          <a:xfrm>
            <a:off x="3048120" y="49528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70"/>
          <p:cNvSpPr/>
          <p:nvPr/>
        </p:nvSpPr>
        <p:spPr>
          <a:xfrm>
            <a:off x="4648320" y="4648320"/>
            <a:ext cx="457200" cy="4572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71"/>
          <p:cNvSpPr/>
          <p:nvPr/>
        </p:nvSpPr>
        <p:spPr>
          <a:xfrm>
            <a:off x="4724280" y="4419720"/>
            <a:ext cx="763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72"/>
          <p:cNvSpPr/>
          <p:nvPr/>
        </p:nvSpPr>
        <p:spPr>
          <a:xfrm>
            <a:off x="49680" y="411480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73"/>
          <p:cNvSpPr/>
          <p:nvPr/>
        </p:nvSpPr>
        <p:spPr>
          <a:xfrm flipV="1">
            <a:off x="609480" y="396252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74"/>
          <p:cNvSpPr/>
          <p:nvPr/>
        </p:nvSpPr>
        <p:spPr>
          <a:xfrm flipV="1">
            <a:off x="1752480" y="434304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75"/>
          <p:cNvSpPr/>
          <p:nvPr/>
        </p:nvSpPr>
        <p:spPr>
          <a:xfrm flipH="1">
            <a:off x="20574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D30F-BAC4-4059-91A6-9F1CE4D8AA79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CA11-6859-4A4B-A5BB-7C2E3A860A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1523880" y="32004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3"/>
          <p:cNvGrpSpPr/>
          <p:nvPr/>
        </p:nvGrpSpPr>
        <p:grpSpPr>
          <a:xfrm>
            <a:off x="304920" y="457200"/>
            <a:ext cx="8610480" cy="5762520"/>
            <a:chOff x="304920" y="457200"/>
            <a:chExt cx="8610480" cy="5762520"/>
          </a:xfrm>
        </p:grpSpPr>
        <p:sp>
          <p:nvSpPr>
            <p:cNvPr id="796" name="Rectangle 4"/>
            <p:cNvSpPr/>
            <p:nvPr/>
          </p:nvSpPr>
          <p:spPr>
            <a:xfrm>
              <a:off x="304920" y="457200"/>
              <a:ext cx="8610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The SDR Basket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SDR = dollar + euro + yen + poun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9e90f"/>
                  </a:solidFill>
                  <a:latin typeface="Times New Roman"/>
                  <a:ea typeface="SimSun"/>
                </a:rPr>
                <a:t>                    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7" name="Object 5"/>
            <p:cNvGraphicFramePr/>
            <p:nvPr/>
          </p:nvGraphicFramePr>
          <p:xfrm>
            <a:off x="2057400" y="1905120"/>
            <a:ext cx="5257800" cy="43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905120"/>
                      <a:ext cx="5257800" cy="43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90f"/>
                </a:solidFill>
                <a:latin typeface="Arial"/>
                <a:ea typeface="SimSun"/>
              </a:rPr>
              <a:t>Quotas in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04920" y="495360"/>
          <a:ext cx="9829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360"/>
                    <a:ext cx="9829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7C30-B908-4A28-90B5-F038BB31854C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8E94-41B5-4F30-A97E-22E2775715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  <a:ea typeface="SimSun"/>
              </a:rPr>
              <a:t>Intor Sandwi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1295280" y="1523880"/>
          <a:ext cx="64245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424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447920" y="1143000"/>
            <a:ext cx="5867280" cy="5486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SimSun"/>
              </a:rPr>
              <a:t>World Map with the INT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4038480" y="1219320"/>
            <a:ext cx="1755720" cy="1755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5715000" y="2819520"/>
            <a:ext cx="1554120" cy="155412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5791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8"/>
          <p:cNvSpPr/>
          <p:nvPr/>
        </p:nvSpPr>
        <p:spPr>
          <a:xfrm>
            <a:off x="3048120" y="1905120"/>
            <a:ext cx="666720" cy="6667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441972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048120" y="1295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2133720" y="2590920"/>
            <a:ext cx="1371600" cy="1371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13"/>
          <p:cNvSpPr/>
          <p:nvPr/>
        </p:nvSpPr>
        <p:spPr>
          <a:xfrm>
            <a:off x="3352680" y="4343400"/>
            <a:ext cx="547920" cy="5475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5"/>
          <p:cNvSpPr/>
          <p:nvPr/>
        </p:nvSpPr>
        <p:spPr>
          <a:xfrm>
            <a:off x="2362320" y="16765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6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7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8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9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2209680" y="37339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2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24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27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26668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29"/>
          <p:cNvSpPr/>
          <p:nvPr/>
        </p:nvSpPr>
        <p:spPr>
          <a:xfrm>
            <a:off x="1981080" y="4495680"/>
            <a:ext cx="457200" cy="457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832400" y="50292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1"/>
          <p:cNvSpPr/>
          <p:nvPr/>
        </p:nvSpPr>
        <p:spPr>
          <a:xfrm>
            <a:off x="5181480" y="4876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726800" y="5410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33"/>
          <p:cNvSpPr/>
          <p:nvPr/>
        </p:nvSpPr>
        <p:spPr>
          <a:xfrm>
            <a:off x="4191120" y="5791320"/>
            <a:ext cx="365040" cy="365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3962520" y="617220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5"/>
          <p:cNvSpPr/>
          <p:nvPr/>
        </p:nvSpPr>
        <p:spPr>
          <a:xfrm>
            <a:off x="3279240" y="4952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6477120" y="3429000"/>
            <a:ext cx="457200" cy="457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7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6555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6095880" y="18288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602208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267080" y="3505320"/>
            <a:ext cx="731880" cy="731880"/>
          </a:xfrm>
          <a:prstGeom prst="ellipse">
            <a:avLst/>
          </a:prstGeom>
          <a:solidFill>
            <a:srgbClr val="ffcc99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42"/>
          <p:cNvSpPr/>
          <p:nvPr/>
        </p:nvSpPr>
        <p:spPr>
          <a:xfrm>
            <a:off x="44956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43"/>
          <p:cNvSpPr/>
          <p:nvPr/>
        </p:nvSpPr>
        <p:spPr>
          <a:xfrm>
            <a:off x="47242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73040" y="2361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.S. the Ascending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ready by 1890 the U.S. was the largest econom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outbreak of World War I, the United States was on the verge of superpower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System (1913) gave the U.S. a central bank and concentrated its monetary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 economy was already larger than the next three biggest economies pu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poised to break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304920" y="1523880"/>
            <a:ext cx="1981080" cy="1905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457200" y="5257800"/>
            <a:ext cx="168768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4495680" y="533520"/>
            <a:ext cx="1752840" cy="1676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26800" y="1752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625280" y="8571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7560" y="594360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822760" y="59436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2362320" y="251460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818800" y="297180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Diagram 15"/>
          <p:cNvGrpSpPr/>
          <p:nvPr/>
        </p:nvGrpSpPr>
        <p:grpSpPr>
          <a:xfrm>
            <a:off x="5500800" y="1104840"/>
            <a:ext cx="3529080" cy="2986200"/>
            <a:chOff x="5500800" y="1104840"/>
            <a:chExt cx="3529080" cy="2986200"/>
          </a:xfrm>
        </p:grpSpPr>
        <p:sp>
          <p:nvSpPr>
            <p:cNvPr id="199" name="_s2052"/>
            <p:cNvSpPr/>
            <p:nvPr/>
          </p:nvSpPr>
          <p:spPr>
            <a:xfrm>
              <a:off x="5500800" y="246240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2053"/>
            <p:cNvSpPr/>
            <p:nvPr/>
          </p:nvSpPr>
          <p:spPr>
            <a:xfrm>
              <a:off x="8379000" y="182880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5908680" y="2870280"/>
              <a:ext cx="814320" cy="814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2055"/>
            <p:cNvSpPr/>
            <p:nvPr/>
          </p:nvSpPr>
          <p:spPr>
            <a:xfrm>
              <a:off x="8379000" y="110484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58520" y="308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57200" y="-50760"/>
            <a:ext cx="93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3352680" y="3657600"/>
            <a:ext cx="129564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1066680" y="22096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4952880" y="9907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838080" y="59436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799560" y="5562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52680" y="6172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5181480" y="62485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6629400" y="53341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1218960" y="2819520"/>
            <a:ext cx="75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H="1" flipV="1">
            <a:off x="1600200" y="2666520"/>
            <a:ext cx="1905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676520" y="1523520"/>
            <a:ext cx="33526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 flipV="1">
            <a:off x="1676520" y="2590920"/>
            <a:ext cx="4419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1447920" y="2819520"/>
            <a:ext cx="198108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1600200" y="2743200"/>
            <a:ext cx="373392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1676520" y="2666880"/>
            <a:ext cx="502920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e-formed Gold Standard in the Late 1920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had half the world’s monetary g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and the rest of the world went back to the gold standar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enacted its monetary law in 192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economy was just a year away from economic catastroph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the global unit of account but gold was the means of sett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 Proskurovska</cp:lastModifiedBy>
  <dcterms:modified xsi:type="dcterms:W3CDTF">2010-06-07T16:25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